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4FE8-33D7-42D5-A922-EECD1FB8E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43E8-F93A-4C2E-8770-022C0E49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834E-8778-4C74-9405-08B7CE7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9103-F9E8-4B27-B82A-ABA950878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82AE2-ED1F-40CD-A931-13DB73858F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AB828-71C3-4114-9CA2-51921764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2A10-5C18-4449-96A8-A1EA6420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46196-DCA9-405C-AEB4-5658207F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BD5EA-9E46-4AF9-8FBB-E211CCB8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87B7E-71B3-440A-80F5-21821614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46C3A-E592-4574-89AE-6D7FD63E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1D1F-73E0-4089-A8EF-08C7963A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01817-B9A3-4270-8834-85A48A66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FCF1B-C8A5-4D8A-B036-4C23D58D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7CA69-EE37-44E9-A726-1E6452A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F8361-7329-4166-9690-3F97881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49E77-066C-40B7-BF2A-49B107673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0D8D-0462-47C7-8B8B-BB090B8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B097-6CC0-410A-8EB1-2833EDD6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3A41-094D-4551-8642-9C6A5F70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705E-3B3F-42E5-A407-CFA277F4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EAD6-D57D-41C8-A000-8914282E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E316-928E-44DF-A07C-3EEDF6DB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DE56-BC27-4355-B158-5984EEBD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9F92-BE94-47D6-81B1-5E2C1330CBC7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DEA1-9768-4CBE-9571-85F491A8B8D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F366-25F0-4462-9199-7024F0E613D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7426-6372-49CE-98A7-1442570C675A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Untitled</a:t>
            </a:r>
            <a:br>
              <a:rPr sz="2800"/>
            </a:b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AAEAF-AA21-4370-A878-564369FD0BA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E9002A-411F-426B-9AB9-FD954003E4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C4AE-4375-41A2-AF27-04CD523916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3767CCD-7990-469F-8621-5779E1A096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28A5-9378-46F9-9C14-DE587630B0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09CE68-C330-4C85-BFE4-646AAC371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505C-76AD-4E58-BE3B-BFD8C47E8B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800E2CF-AA0A-42C6-B41A-FDC4398DCC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AE15-7A5E-4AD1-BCD8-B8906CECD3B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76DE5B-80ED-49C8-AB95-687A8E608E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4D145-97BF-4901-8225-9DE9B1BDBAB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96CEE5-BDB8-452F-882D-FABAA710D3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PC</cp:lastModifiedBy>
  <dcterms:modified xsi:type="dcterms:W3CDTF">2008-04-01T16:51:10Z</dcterms:modified>
  <cp:revision>102</cp:revision>
  <dc:subject/>
  <dc:title>Design Review Document</dc:title>
</cp:coreProperties>
</file>