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3AAF-3E93-4E21-9947-1A53AA701D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EC55-F590-4839-A400-54C68941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3604-3316-4DB1-90E5-852CCF8B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7224-80CB-4FAA-A179-3BA2EE6788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1B554-037F-4C7C-856A-6AAB4E1F85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1BC19-B9CA-44E4-BBC8-487A1C39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0EB4F-B5B8-4F6D-9173-87FF7814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4A7E9-44AA-42C9-B6DB-F8F027FD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BC9B4-9B88-47EA-A70C-1572F235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F0C3C-92A1-4EF0-90F1-61D1AC2A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59B6F-4EFD-4250-B8D1-74054172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65EF6-1BFA-404D-A643-98EDBC22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6EBE4-40C7-4569-9F05-A4C5BD35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A5521-D18F-4F1A-B108-B8F60E07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80229-22B3-4EE6-8FBB-59AF1968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A8763-C697-4979-8033-3C4110E5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597A3-A635-4C63-8241-141A4F31E7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F7EF-C5FC-40E6-A8DC-D5C13223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31BC-A0B7-4B4B-9A57-AC813DAA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0E4B-59BC-403B-ADC5-396176AB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8920-A8EC-416F-A1FA-9BAFA6EC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1879-E54A-4721-9A6A-93986097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CD40-771C-4494-807D-BCCACC24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2D3A-45F0-4639-AFD7-80B595D4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0"/>
            <a:ext cx="8458200" cy="83808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42040"/>
            <a:ext cx="2565000" cy="4720320"/>
            <a:chOff x="0" y="842040"/>
            <a:chExt cx="2565000" cy="4720320"/>
          </a:xfrm>
        </p:grpSpPr>
        <p:sp>
          <p:nvSpPr>
            <p:cNvPr id="2" name=""/>
            <p:cNvSpPr/>
            <p:nvPr/>
          </p:nvSpPr>
          <p:spPr>
            <a:xfrm rot="559200">
              <a:off x="939960" y="914400"/>
              <a:ext cx="1264680" cy="455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082880"/>
              <a:ext cx="2285640" cy="447948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A132-3B0D-436E-AD98-7C86515F10CA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45720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04920"/>
            <a:ext cx="365760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-258840"/>
            <a:ext cx="2209680" cy="3457800"/>
            <a:chOff x="0" y="-258840"/>
            <a:chExt cx="2209680" cy="3457800"/>
          </a:xfrm>
        </p:grpSpPr>
        <p:sp>
          <p:nvSpPr>
            <p:cNvPr id="8" name=""/>
            <p:cNvSpPr/>
            <p:nvPr/>
          </p:nvSpPr>
          <p:spPr>
            <a:xfrm rot="1135800">
              <a:off x="812880" y="-209520"/>
              <a:ext cx="863640" cy="33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1440"/>
              <a:ext cx="2209680" cy="3200400"/>
            </a:xfrm>
            <a:custGeom>
              <a:avLst/>
              <a:gdLst/>
              <a:ahLst/>
              <a:rect l="l" t="t" r="r" b="b"/>
              <a:pathLst>
                <a:path w="1344" h="2064">
                  <a:moveTo>
                    <a:pt x="672" y="2064"/>
                  </a:moveTo>
                  <a:lnTo>
                    <a:pt x="0" y="2064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864" y="480"/>
                  </a:lnTo>
                  <a:lnTo>
                    <a:pt x="624" y="1152"/>
                  </a:lnTo>
                  <a:lnTo>
                    <a:pt x="576" y="1728"/>
                  </a:lnTo>
                  <a:lnTo>
                    <a:pt x="672" y="2064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28600" y="106668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179280" y="6137280"/>
            <a:ext cx="1403280" cy="531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4"/>
          <p:cNvSpPr>
            <a:spLocks noGrp="1"/>
          </p:cNvSpPr>
          <p:nvPr>
            <p:ph type="dt" idx="2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C023-04C6-4D1A-B614-BBF0FA9DA7E1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648520"/>
            <a:ext cx="2450160" cy="4209120"/>
            <a:chOff x="0" y="2648520"/>
            <a:chExt cx="2450160" cy="4209120"/>
          </a:xfrm>
        </p:grpSpPr>
        <p:sp>
          <p:nvSpPr>
            <p:cNvPr id="52" name=""/>
            <p:cNvSpPr/>
            <p:nvPr/>
          </p:nvSpPr>
          <p:spPr>
            <a:xfrm rot="559200">
              <a:off x="907920" y="2720520"/>
              <a:ext cx="1222200" cy="404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870640"/>
              <a:ext cx="2209320" cy="398700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3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BD73-89D1-45C9-9515-2835E0B8FA9C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9A52-3771-4938-A799-37694038794A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0"/>
            <a:ext cx="6705720" cy="228600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38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2022480" y="1773360"/>
            <a:ext cx="3701880" cy="11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1916280"/>
            <a:ext cx="6553080" cy="95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85880" cy="637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1844640"/>
            <a:ext cx="7020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145"/>
                </a:solidFill>
                <a:latin typeface="Tahoma"/>
              </a:rPr>
              <a:t>Untitled</a:t>
            </a:r>
            <a:br>
              <a:rPr sz="2800"/>
            </a:br>
            <a:r>
              <a:rPr b="1" lang="en-US" sz="2800" spc="-1" strike="noStrike">
                <a:solidFill>
                  <a:srgbClr val="ffc145"/>
                </a:solidFill>
                <a:latin typeface="Tahoma"/>
              </a:rPr>
              <a:t>Design Review Document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71611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, All right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CE4AB-0380-4669-BD0C-3F34B03F6AC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D1ACF4-A1B6-44F4-B82C-44439CF87D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145"/>
                </a:solidFill>
                <a:latin typeface="Tahoma"/>
              </a:rPr>
              <a:t>Introduction</a:t>
            </a:r>
            <a:endParaRPr b="1" lang="en-US" sz="32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931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l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C698-7028-4EB2-813D-6BCA96F55E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9341D3D-6335-4855-A384-FC1376B5D3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145"/>
                </a:solidFill>
                <a:latin typeface="Tahoma"/>
              </a:rPr>
              <a:t>$$ Packag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-2700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2D56-3B10-4C96-9A2D-EEF75273862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5CECD96-20AD-4765-B6DB-4DD926E888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 Diagram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71294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640" y="5084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8055-3656-414C-9482-D0A5E11E7E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9ADC071-48BB-4BBC-A3F6-6926B920C1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Basic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Alternative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re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ost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D14B-0E37-4506-BE87-BA65EE51EDA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C398502-01CC-4CC4-8008-1412FC3769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87105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145"/>
                </a:solidFill>
                <a:latin typeface="Tahoma"/>
              </a:rPr>
              <a:t>Thank You</a:t>
            </a:r>
            <a:endParaRPr b="1" lang="en-US" sz="66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6C834-F247-4AD2-8FAC-5F84DF78C7B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F6D4DF-A5C6-427E-AF4D-2FB6266561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5:58:58Z</dcterms:created>
  <dc:creator>StarUML</dc:creator>
  <dc:description/>
  <dc:language>en-US</dc:language>
  <cp:lastModifiedBy>PC</cp:lastModifiedBy>
  <dcterms:modified xsi:type="dcterms:W3CDTF">2008-04-01T16:51:10Z</dcterms:modified>
  <cp:revision>102</cp:revision>
  <dc:subject/>
  <dc:title>Design Review Document</dc:title>
</cp:coreProperties>
</file>