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BB4FB-5626-422B-B302-9A8BC70001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F0451-482F-44BC-9CC3-AD912A44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6AB35-3532-432D-B0CE-692EF4C0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8CB14-3E20-418E-8823-59AF2B2C29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93EA3-7D73-48F0-974C-CF097DF93F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04B56-DD52-4ADC-A9FD-73442722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3EAA7-D0A9-49D8-A6C9-3E763F37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CC0EE-7D46-4133-A27B-4F359C39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B07C5-8146-4187-B1FF-752F5064F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979280" y="2133720"/>
            <a:ext cx="6910200" cy="33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A7232-9621-4D41-A7F3-E77A44075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4C350-A03E-45C8-A7E9-4CDA4073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9260A-8C43-4713-A198-936B4A16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34CDA-DCC3-4140-8806-BDB65087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55213-1700-47F0-A761-1ADFE825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99F35-2859-4804-A4A4-8F5545DC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727E9-8A58-4795-A09C-733668E5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0EF8EB-9CD1-4EA4-9F6B-1AE8252A18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E48DA-141C-4AF2-8C52-B789EE8C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A0069-F729-47D9-937A-EB059589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D97A2-9EB9-4B24-AF45-46C5BC69D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79280" y="2133720"/>
            <a:ext cx="6910200" cy="33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7E98D-A93D-4A55-9238-4468156B1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C6780-E3C6-481F-B174-1C664251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316D8-56A9-4C00-9D52-B76ACCE0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71714-2D3E-4B2B-83E7-F1CD7F94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0"/>
            <a:ext cx="8458200" cy="838080"/>
          </a:xfrm>
          <a:prstGeom prst="rect">
            <a:avLst/>
          </a:prstGeom>
          <a:solidFill>
            <a:srgbClr val="ff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842040"/>
            <a:ext cx="2565000" cy="4720320"/>
            <a:chOff x="0" y="842040"/>
            <a:chExt cx="2565000" cy="4720320"/>
          </a:xfrm>
        </p:grpSpPr>
        <p:sp>
          <p:nvSpPr>
            <p:cNvPr id="2" name=""/>
            <p:cNvSpPr/>
            <p:nvPr/>
          </p:nvSpPr>
          <p:spPr>
            <a:xfrm rot="559200">
              <a:off x="939960" y="914400"/>
              <a:ext cx="1264680" cy="4550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145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082880"/>
              <a:ext cx="2285640" cy="4479480"/>
            </a:xfrm>
            <a:custGeom>
              <a:avLst/>
              <a:gdLst/>
              <a:ahLst/>
              <a:rect l="l" t="t" r="r" b="b"/>
              <a:pathLst>
                <a:path w="1584" h="2160">
                  <a:moveTo>
                    <a:pt x="1296" y="2160"/>
                  </a:moveTo>
                  <a:lnTo>
                    <a:pt x="0" y="2160"/>
                  </a:lnTo>
                  <a:lnTo>
                    <a:pt x="0" y="0"/>
                  </a:lnTo>
                  <a:lnTo>
                    <a:pt x="1584" y="0"/>
                  </a:lnTo>
                  <a:lnTo>
                    <a:pt x="960" y="672"/>
                  </a:lnTo>
                  <a:lnTo>
                    <a:pt x="864" y="1344"/>
                  </a:lnTo>
                  <a:lnTo>
                    <a:pt x="1056" y="1920"/>
                  </a:lnTo>
                  <a:lnTo>
                    <a:pt x="1296" y="2160"/>
                  </a:lnTo>
                  <a:close/>
                </a:path>
              </a:pathLst>
            </a:custGeom>
            <a:gradFill rotWithShape="0">
              <a:gsLst>
                <a:gs pos="0">
                  <a:srgbClr val="ffc145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A255-08BC-4255-B3BE-11608E552D13}" type="slidenum">
              <a:rPr b="0" lang="ko-K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45720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04920"/>
            <a:ext cx="3657600" cy="63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0" y="-258840"/>
            <a:ext cx="2209680" cy="3457800"/>
            <a:chOff x="0" y="-258840"/>
            <a:chExt cx="2209680" cy="3457800"/>
          </a:xfrm>
        </p:grpSpPr>
        <p:sp>
          <p:nvSpPr>
            <p:cNvPr id="8" name=""/>
            <p:cNvSpPr/>
            <p:nvPr/>
          </p:nvSpPr>
          <p:spPr>
            <a:xfrm rot="1135800">
              <a:off x="812880" y="-209520"/>
              <a:ext cx="863640" cy="3357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1440"/>
              <a:ext cx="2209680" cy="3200400"/>
            </a:xfrm>
            <a:custGeom>
              <a:avLst/>
              <a:gdLst/>
              <a:ahLst/>
              <a:rect l="l" t="t" r="r" b="b"/>
              <a:pathLst>
                <a:path w="1344" h="2064">
                  <a:moveTo>
                    <a:pt x="672" y="2064"/>
                  </a:moveTo>
                  <a:lnTo>
                    <a:pt x="0" y="2064"/>
                  </a:lnTo>
                  <a:lnTo>
                    <a:pt x="0" y="0"/>
                  </a:lnTo>
                  <a:lnTo>
                    <a:pt x="1344" y="0"/>
                  </a:lnTo>
                  <a:lnTo>
                    <a:pt x="864" y="480"/>
                  </a:lnTo>
                  <a:lnTo>
                    <a:pt x="624" y="1152"/>
                  </a:lnTo>
                  <a:lnTo>
                    <a:pt x="576" y="1728"/>
                  </a:lnTo>
                  <a:lnTo>
                    <a:pt x="672" y="2064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228600" y="106668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145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179280" y="6137280"/>
            <a:ext cx="1403280" cy="53172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4"/>
          <p:cNvSpPr>
            <a:spLocks noGrp="1"/>
          </p:cNvSpPr>
          <p:nvPr>
            <p:ph type="dt" idx="2"/>
          </p:nvPr>
        </p:nvSpPr>
        <p:spPr>
          <a:xfrm>
            <a:off x="36352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5114-C939-4965-AD78-66BDE9BD1298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648520"/>
            <a:ext cx="2450160" cy="4209120"/>
            <a:chOff x="0" y="2648520"/>
            <a:chExt cx="2450160" cy="4209120"/>
          </a:xfrm>
        </p:grpSpPr>
        <p:sp>
          <p:nvSpPr>
            <p:cNvPr id="52" name=""/>
            <p:cNvSpPr/>
            <p:nvPr/>
          </p:nvSpPr>
          <p:spPr>
            <a:xfrm rot="559200">
              <a:off x="907920" y="2720520"/>
              <a:ext cx="1222200" cy="404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3366cc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2870640"/>
              <a:ext cx="2209320" cy="3987000"/>
            </a:xfrm>
            <a:custGeom>
              <a:avLst/>
              <a:gdLst/>
              <a:ahLst/>
              <a:rect l="l" t="t" r="r" b="b"/>
              <a:pathLst>
                <a:path w="1584" h="2160">
                  <a:moveTo>
                    <a:pt x="1296" y="2160"/>
                  </a:moveTo>
                  <a:lnTo>
                    <a:pt x="0" y="2160"/>
                  </a:lnTo>
                  <a:lnTo>
                    <a:pt x="0" y="0"/>
                  </a:lnTo>
                  <a:lnTo>
                    <a:pt x="1584" y="0"/>
                  </a:lnTo>
                  <a:lnTo>
                    <a:pt x="960" y="672"/>
                  </a:lnTo>
                  <a:lnTo>
                    <a:pt x="864" y="1344"/>
                  </a:lnTo>
                  <a:lnTo>
                    <a:pt x="1056" y="1920"/>
                  </a:lnTo>
                  <a:lnTo>
                    <a:pt x="1296" y="2160"/>
                  </a:lnTo>
                  <a:close/>
                </a:path>
              </a:pathLst>
            </a:custGeom>
            <a:gradFill rotWithShape="0">
              <a:gsLst>
                <a:gs pos="0">
                  <a:srgbClr val="3366cc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3"/>
          </p:nvPr>
        </p:nvSpPr>
        <p:spPr>
          <a:xfrm>
            <a:off x="36352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FA08-6CB8-43C5-8103-00B855348F1C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3EFB-6DAF-4C8C-AEEF-0F1E4498C7B2}" type="slidenum">
              <a:rPr b="0" lang="ko-K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0"/>
            <a:ext cx="6705720" cy="2286000"/>
          </a:xfrm>
          <a:prstGeom prst="rect">
            <a:avLst/>
          </a:prstGeom>
          <a:solidFill>
            <a:srgbClr val="ff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9383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2022480" y="1773360"/>
            <a:ext cx="3701880" cy="11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1916280"/>
            <a:ext cx="6553080" cy="95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145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85880" cy="6379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505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4000" y="1844640"/>
            <a:ext cx="70200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145"/>
                </a:solidFill>
                <a:latin typeface="Tahoma"/>
              </a:rPr>
              <a:t>Untitled</a:t>
            </a:r>
            <a:br>
              <a:rPr sz="2800"/>
            </a:br>
            <a:r>
              <a:rPr b="1" lang="en-US" sz="2800" spc="-1" strike="noStrike">
                <a:solidFill>
                  <a:srgbClr val="ffc145"/>
                </a:solidFill>
                <a:latin typeface="Tahoma"/>
              </a:rPr>
              <a:t>Design Review Document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221000"/>
            <a:ext cx="71611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© , All rights reser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4C5F4-FFC3-49C2-BDBE-D33740239DF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507537-E03D-4106-A2F8-B196BE8EB36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145"/>
                </a:solidFill>
                <a:latin typeface="Tahoma"/>
              </a:rPr>
              <a:t>Introduction</a:t>
            </a:r>
            <a:endParaRPr b="1" lang="en-US" sz="32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7931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all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1D3D0-C924-4597-9EB0-1B346942F72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625DC3F-69BD-4D1E-B3B8-83126DB84D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145"/>
                </a:solidFill>
                <a:latin typeface="Tahoma"/>
              </a:rPr>
              <a:t>$$ Package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88000" y="-2700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ckag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8C0A3-9E1C-44AA-B259-05DD59759F5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5DAADF4-1DF2-42B0-9647-B247F3124CD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$$ Usecase Diagram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640" y="1268280"/>
            <a:ext cx="71294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640" y="508464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19640" y="-2700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Usecase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E2216-5A6D-49B5-AD1B-8349D8942A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218FB1D-137F-4287-B52C-17B160433F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$$ Usecase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148428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Descriptions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Basic Flow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Alternative Flow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Preconditions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Postconditions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-2700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Usecas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C5A40-FEE9-42B8-BCAE-A59872967450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176F789-963D-4C93-93C3-1DC3846454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2133720"/>
            <a:ext cx="87105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145"/>
                </a:solidFill>
                <a:latin typeface="Tahoma"/>
              </a:rPr>
              <a:t>Thank You</a:t>
            </a:r>
            <a:endParaRPr b="1" lang="en-US" sz="66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855F6-6A83-45EF-98E8-597A9C25F3A8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17B235-72BA-4AF6-9CB3-2C4E54F83F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05:58:58Z</dcterms:created>
  <dc:creator>StarUML</dc:creator>
  <dc:description/>
  <dc:language>en-US</dc:language>
  <cp:lastModifiedBy>PC</cp:lastModifiedBy>
  <dcterms:modified xsi:type="dcterms:W3CDTF">2008-04-01T16:51:10Z</dcterms:modified>
  <cp:revision>102</cp:revision>
  <dc:subject/>
  <dc:title>Design Review Document</dc:title>
</cp:coreProperties>
</file>