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527D-55CC-4B4C-843B-CBF152FB7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EACE-5807-4C7C-BF95-8B2A32B0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6B13-3C27-4BF7-BA8D-DA782B0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4A9C-01BE-4459-BA0E-0269D0A8E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0EAAF-952C-4F17-9376-3856CC6856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3CD9D-691B-453D-8D0C-E3EED690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2A1C5-A3B5-44F6-8814-6C389E5D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35477-8E76-4D15-BC61-9B83FCE9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FC9D7-363F-4580-8447-DD6A0C5D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146FC-57FF-4B14-B737-A61F6DFF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FCB40-7E8D-4FB3-A2BD-4098B441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EDFF-5FB8-4A9D-9AAE-BCC874C0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661DF-708B-41CF-BF57-DB18D38A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42CBC-1570-46E1-8863-D2707234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49B3F-7A27-4E34-B12B-31C09571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478A6-5DCE-4B40-AD96-98D02D5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C4847-021F-4B5E-ABA0-3D3030C0D3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C7EB-F70E-46D3-8580-1EA5C53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BDB5-E065-43E2-B3DA-6E31E241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7015-3AD9-4E14-A723-12C92106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4D5C-85F5-485F-BEA2-FDEC5616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835A-C4C0-4B8F-BBC7-B519CC46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C921-39A5-4F24-9862-57865326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413B-C81B-4181-B7C2-AF7DAA98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43E2-EEFF-4C6E-977C-BB8DB9E4B35F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ADE-9B39-4E59-8D31-FEFD4093829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9A23-4B84-469D-AAAB-F3E16C7E288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EE4C-E18F-4DB3-B616-C4CB861B957B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Untitled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091A1-CCE2-4194-B22E-3024B761488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E9D352-7C2E-42E3-9E84-A5547572AD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E2D4-FB3C-4853-8006-810D1696C3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A70B46-2595-4C02-B6EC-F02FF11895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722F-2845-49A4-8458-B971ACD051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6F8DB1D-E669-4693-8CCF-33892450B7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1C7C-2A9C-4FFD-A1BC-917E816926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722DC1A-9808-4392-B894-D87CF49DF5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94DA-B31F-49E5-B7B4-4FD180D2087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4C06F0-3E93-4CE3-9003-D8B9781EEF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A31B6-4F92-4343-A092-A8FE9A953FB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3244E0-A7C1-4159-A181-A01EB3FA76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PC</cp:lastModifiedBy>
  <dcterms:modified xsi:type="dcterms:W3CDTF">2008-04-01T16:53:06Z</dcterms:modified>
  <cp:revision>102</cp:revision>
  <dc:subject/>
  <dc:title>Design Review Document</dc:title>
</cp:coreProperties>
</file>