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9B57-C7EB-47C8-B42D-D526893BB4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15DD-D6D5-4203-BD2D-103C1DF7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AFB6-1A05-4AED-BC95-1EC4FE85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54A7-F31E-4F22-8B32-D32808356B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65BDD-6D7E-42A1-BE03-117BE3C2B9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D9E58-5FB8-4C2D-8438-537278D8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EFAAC-DD6F-45C7-A313-A05F485A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18A9B-E16A-4B3E-888C-0AF911A1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71E5D-C96A-44F9-A783-E2B19CAC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8CEBE-35F0-44F7-ADEB-EAA2CEF3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87361-4D74-4157-8154-9EFBDF03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70E8-D6CF-48B2-AF65-34FC4914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5803D-5FDB-4219-A2A7-E93F9CC9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3E4C3-54A6-47E7-A3D0-122E7463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411C6-EB9A-4AE8-AAC4-A315CF77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60CAC-BA24-4F74-AF52-BBBA68A3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48264-2733-43F3-B204-F5BFF58250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72CB-DEB3-439E-830D-F8FCDEB8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0A57-56B7-44B9-A871-E94ADA7C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9434-0EEB-404E-BF83-2CB56C6B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6B2B-5C6C-48DC-84BB-F6C03AE4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786A-D37C-499F-BAFE-AA4B58EF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B31A-6012-42EF-9A26-4C725406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AF51-6361-4557-A6CB-96F0C4DA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0"/>
            <a:ext cx="8458200" cy="83808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040"/>
            <a:ext cx="2565000" cy="4720320"/>
            <a:chOff x="0" y="842040"/>
            <a:chExt cx="2565000" cy="4720320"/>
          </a:xfrm>
        </p:grpSpPr>
        <p:sp>
          <p:nvSpPr>
            <p:cNvPr id="2" name=""/>
            <p:cNvSpPr/>
            <p:nvPr/>
          </p:nvSpPr>
          <p:spPr>
            <a:xfrm rot="559200">
              <a:off x="939960" y="914400"/>
              <a:ext cx="1264680" cy="455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82880"/>
              <a:ext cx="2285640" cy="447948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1539-B63C-4B59-81A1-13ED5614A9F2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-258840"/>
            <a:ext cx="2209680" cy="3457800"/>
            <a:chOff x="0" y="-258840"/>
            <a:chExt cx="2209680" cy="3457800"/>
          </a:xfrm>
        </p:grpSpPr>
        <p:sp>
          <p:nvSpPr>
            <p:cNvPr id="8" name=""/>
            <p:cNvSpPr/>
            <p:nvPr/>
          </p:nvSpPr>
          <p:spPr>
            <a:xfrm rot="1135800">
              <a:off x="812880" y="-209520"/>
              <a:ext cx="863640" cy="33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1440"/>
              <a:ext cx="2209680" cy="3200400"/>
            </a:xfrm>
            <a:custGeom>
              <a:avLst/>
              <a:gdLst/>
              <a:ahLst/>
              <a:rect l="l" t="t" r="r" b="b"/>
              <a:pathLst>
                <a:path w="1344" h="2064">
                  <a:moveTo>
                    <a:pt x="672" y="2064"/>
                  </a:moveTo>
                  <a:lnTo>
                    <a:pt x="0" y="2064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864" y="480"/>
                  </a:lnTo>
                  <a:lnTo>
                    <a:pt x="624" y="1152"/>
                  </a:lnTo>
                  <a:lnTo>
                    <a:pt x="576" y="1728"/>
                  </a:lnTo>
                  <a:lnTo>
                    <a:pt x="672" y="2064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79280" y="6137280"/>
            <a:ext cx="1403280" cy="531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dt" idx="2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0FF5-56E3-4865-B741-FF6C6528967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48520"/>
            <a:ext cx="2450160" cy="4209120"/>
            <a:chOff x="0" y="2648520"/>
            <a:chExt cx="2450160" cy="4209120"/>
          </a:xfrm>
        </p:grpSpPr>
        <p:sp>
          <p:nvSpPr>
            <p:cNvPr id="52" name=""/>
            <p:cNvSpPr/>
            <p:nvPr/>
          </p:nvSpPr>
          <p:spPr>
            <a:xfrm rot="559200">
              <a:off x="907920" y="2720520"/>
              <a:ext cx="1222200" cy="404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870640"/>
              <a:ext cx="2209320" cy="39870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3E22-E323-4219-A717-D2BA7310C37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D5FF-2467-48AA-998C-16B36D04C12C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0"/>
            <a:ext cx="6705720" cy="228600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38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022480" y="1773360"/>
            <a:ext cx="3701880" cy="11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1916280"/>
            <a:ext cx="6553080" cy="9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1844640"/>
            <a:ext cx="70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Untitled</a:t>
            </a:r>
            <a:br>
              <a:rPr sz="2800"/>
            </a:b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Design Review Document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161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opyright © , All righ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92AD5-69D4-4789-B522-D06DE87732B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F679A8-EBAD-4EC7-BFA2-56639D15EE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c145"/>
                </a:solidFill>
                <a:latin typeface="Tahoma"/>
              </a:rPr>
              <a:t>Introduction</a:t>
            </a:r>
            <a:endParaRPr b="1" lang="en-US" sz="32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31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Overal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840A-D223-440D-B63B-99BB16B53D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1284CEA-D6D9-4F53-9BF5-33DC95938E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Packag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-2700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F412-8EDE-4F43-B12F-5BE9EE594F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363A50E-52F6-451E-9DC8-84B8C03F78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 Diagram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7129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640" y="508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38D9-15C5-453C-9537-3FD7F1D847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87C6B30-D728-4F27-BFF8-2187437058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Basic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Alternative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re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ost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30F2-F950-487A-8E92-EC2602F5502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2945A2D-5659-42E2-A0D4-8F403ADDD5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7105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ffc145"/>
                </a:solidFill>
                <a:latin typeface="Tahoma"/>
              </a:rPr>
              <a:t>Thank You</a:t>
            </a:r>
            <a:endParaRPr b="1" lang="en-US" sz="66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7B199-AACA-4434-965B-7FBDAB7E332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E0DE1B-2BCE-4F44-B9F0-732BF32F63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5:58:58Z</dcterms:created>
  <dc:creator>StarUML</dc:creator>
  <dc:description/>
  <dc:language>en-US</dc:language>
  <cp:lastModifiedBy>PC</cp:lastModifiedBy>
  <dcterms:modified xsi:type="dcterms:W3CDTF">2008-04-01T16:53:06Z</dcterms:modified>
  <cp:revision>102</cp:revision>
  <dc:subject/>
  <dc:title>Design Review Document</dc:title>
</cp:coreProperties>
</file>