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2FFE-9421-4E82-87A3-106285786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23EA-AB92-4D4B-B992-2BD456AA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B759-8D9D-4ECE-8D09-105BCA54F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CD50-DE7F-4ED1-A1A5-B980C6572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42BD-79E4-4B5E-ADFC-0B57E4F7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A17E-B435-4654-95FE-01F3C82B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6CC4-CEBA-477B-9FC5-B927A275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22AB-1AFA-478B-AB5B-29F1D2D6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754F-ED9E-4F63-9B44-26A20C43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9341-3D3A-4A7C-B179-9B52F1C2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58FB-8EF1-4E3D-8855-C058313A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4553-6F4A-4091-8687-0B224987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A2B6-D590-42A1-B7EA-7523033A063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PA Creatie Toolk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4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cember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XML: Valid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lideer de XML op basis van de beschikbare XS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XSD voor de sevice specificat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ttp://sonnenglanz.net/2009/07/01/smf.services.2.0.x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XSD voor de parameter specificat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ttp://sonnenglanz.net/2009/07/01/smf.parameters.2.0.x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XML: Struct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ervice specific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26920" y="2492280"/>
            <a:ext cx="4969080" cy="2632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932360" y="1484280"/>
            <a:ext cx="3600360" cy="1800360"/>
          </a:xfrm>
          <a:prstGeom prst="wedgeRoundRectCallout">
            <a:avLst>
              <a:gd name="adj1" fmla="val -105907"/>
              <a:gd name="adj2" fmla="val 659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</a:t>
            </a:r>
            <a:r>
              <a:rPr b="0" lang="nl-NL" sz="1800" spc="-1" strike="noStrike">
                <a:solidFill>
                  <a:srgbClr val="333399"/>
                </a:solidFill>
                <a:latin typeface="Arial"/>
              </a:rPr>
              <a:t>services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element beschrijft 1-of-meerdere service element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en </a:t>
            </a:r>
            <a:r>
              <a:rPr b="0" lang="nl-NL" sz="1800" spc="-1" strike="noStrike">
                <a:solidFill>
                  <a:srgbClr val="333399"/>
                </a:solidFill>
                <a:latin typeface="Arial"/>
              </a:rPr>
              <a:t>servic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element beschrijft de berichten die daarin uitgewisseld wo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32360" y="3429000"/>
            <a:ext cx="3600360" cy="1800360"/>
          </a:xfrm>
          <a:prstGeom prst="wedgeRoundRectCallout">
            <a:avLst>
              <a:gd name="adj1" fmla="val -94884"/>
              <a:gd name="adj2" fmla="val -2337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</a:t>
            </a:r>
            <a:r>
              <a:rPr b="0" lang="nl-NL" sz="1800" spc="-1" strike="noStrike">
                <a:solidFill>
                  <a:srgbClr val="333399"/>
                </a:solidFill>
                <a:latin typeface="Arial"/>
              </a:rPr>
              <a:t>rolebindings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element groepeert de verschillende rollen, in de verschillende </a:t>
            </a:r>
            <a:r>
              <a:rPr b="0" lang="nl-NL" sz="1800" spc="-1" strike="noStrike">
                <a:solidFill>
                  <a:srgbClr val="333399"/>
                </a:solidFill>
                <a:latin typeface="Arial"/>
              </a:rPr>
              <a:t>servic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enkelvoud) elemen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2360" y="5373720"/>
            <a:ext cx="3600360" cy="1297080"/>
          </a:xfrm>
          <a:prstGeom prst="wedgeRoundRectCallout">
            <a:avLst>
              <a:gd name="adj1" fmla="val -96958"/>
              <a:gd name="adj2" fmla="val -13959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</a:t>
            </a:r>
            <a:r>
              <a:rPr b="0" lang="nl-NL" sz="1800" spc="-1" strike="noStrike">
                <a:solidFill>
                  <a:srgbClr val="333399"/>
                </a:solidFill>
                <a:latin typeface="Arial"/>
              </a:rPr>
              <a:t>parameters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element geeft aan welke gegevens nog opgegeven moeten worden door een bepaalde part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" dur="1" fill="hold"/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XML Struct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05816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26920" y="2276640"/>
            <a:ext cx="7058160" cy="36576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XML: Structuur -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ervice identif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19640" y="3213000"/>
            <a:ext cx="36036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932360" y="1484280"/>
            <a:ext cx="2519280" cy="720720"/>
          </a:xfrm>
          <a:prstGeom prst="wedgeRoundRectCallout">
            <a:avLst>
              <a:gd name="adj1" fmla="val -98203"/>
              <a:gd name="adj2" fmla="val 19603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k </a:t>
            </a:r>
            <a:r>
              <a:rPr b="0" lang="nl-NL" sz="1800" spc="-1" strike="noStrike">
                <a:solidFill>
                  <a:srgbClr val="333399"/>
                </a:solidFill>
                <a:latin typeface="Arial"/>
              </a:rPr>
              <a:t>servic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element krijgt een identifi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" dur="1" fill="hold"/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68360" y="2205000"/>
            <a:ext cx="6983280" cy="42642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XML: Structuur -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ervice identifier en roleb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13200" y="3168720"/>
            <a:ext cx="36036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25720" y="4797360"/>
            <a:ext cx="360360" cy="549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2"/>
            <a:endCxn id="125" idx="2"/>
          </p:cNvCxnSpPr>
          <p:nvPr/>
        </p:nvCxnSpPr>
        <p:spPr>
          <a:xfrm flipV="1" rot="10800000">
            <a:off x="2910600" y="3349440"/>
            <a:ext cx="87840" cy="1722960"/>
          </a:xfrm>
          <a:prstGeom prst="curvedConnector5">
            <a:avLst>
              <a:gd name="adj1" fmla="val 346502"/>
              <a:gd name="adj2" fmla="val 49989"/>
              <a:gd name="adj3" fmla="val 346502"/>
            </a:avLst>
          </a:prstGeom>
          <a:ln w="28440">
            <a:solidFill>
              <a:srgbClr val="ff0000"/>
            </a:solidFill>
            <a:miter/>
          </a:ln>
        </p:spPr>
      </p:cxnSp>
      <p:sp>
        <p:nvSpPr>
          <p:cNvPr id="127" name=""/>
          <p:cNvSpPr/>
          <p:nvPr/>
        </p:nvSpPr>
        <p:spPr>
          <a:xfrm>
            <a:off x="4356000" y="2781360"/>
            <a:ext cx="4537080" cy="1368360"/>
          </a:xfrm>
          <a:prstGeom prst="wedgeRoundRectCallout">
            <a:avLst>
              <a:gd name="adj1" fmla="val -71379"/>
              <a:gd name="adj2" fmla="val -1577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k </a:t>
            </a:r>
            <a:r>
              <a:rPr b="0" lang="nl-NL" sz="1800" spc="-1" strike="noStrike">
                <a:solidFill>
                  <a:srgbClr val="333399"/>
                </a:solidFill>
                <a:latin typeface="Arial"/>
              </a:rPr>
              <a:t>servic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element krijgt een identifier om daarmee de groepering aan te geven van rollen BINNEN een service en de koppeling met een Part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40360" y="5805360"/>
            <a:ext cx="2951280" cy="917640"/>
          </a:xfrm>
          <a:prstGeom prst="wedgeRoundRectCallout">
            <a:avLst>
              <a:gd name="adj1" fmla="val -39296"/>
              <a:gd name="adj2" fmla="val -1057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dit voorbeeld kan de Partner dus beide rollen gaan vervull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2" dur="1" fill="hold"/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68360" y="2205000"/>
            <a:ext cx="6983280" cy="4264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XML: Structuur - Para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59280" y="4581360"/>
            <a:ext cx="360360" cy="358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96000" y="2565360"/>
            <a:ext cx="2951280" cy="1349280"/>
          </a:xfrm>
          <a:prstGeom prst="wedgeRoundRectCallout">
            <a:avLst>
              <a:gd name="adj1" fmla="val -72379"/>
              <a:gd name="adj2" fmla="val 10106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en referentie naar een parameter lijst: de Partner zal die gegevens moeten opgev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1" dur="1" fill="hold"/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26920" y="2135160"/>
            <a:ext cx="6624720" cy="47228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XML: Structuur - Para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a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2360" y="3284640"/>
            <a:ext cx="360360" cy="358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27640" y="4149720"/>
            <a:ext cx="360360" cy="358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19640" y="4797360"/>
            <a:ext cx="360360" cy="358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635280" y="4436640"/>
            <a:ext cx="86544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635280" y="3499920"/>
            <a:ext cx="1297080" cy="1297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40360" y="4869000"/>
            <a:ext cx="3024360" cy="1584360"/>
          </a:xfrm>
          <a:prstGeom prst="wedgeRoundRectCallout">
            <a:avLst>
              <a:gd name="adj1" fmla="val -121916"/>
              <a:gd name="adj2" fmla="val -49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lijst wordt twee keer gebruikt. Maar als differentiatie nodig is kunnen er ook aparte lijsten worden gemaak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0" dur="1" fill="hold"/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XML: Struct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be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ervice &amp; Message Attribu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6360" y="3357720"/>
            <a:ext cx="11160360" cy="2330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588000" y="5300640"/>
            <a:ext cx="576360" cy="358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59280" y="2781360"/>
            <a:ext cx="2519280" cy="431640"/>
          </a:xfrm>
          <a:prstGeom prst="wedgeRoundRectCallout">
            <a:avLst>
              <a:gd name="adj1" fmla="val -85476"/>
              <a:gd name="adj2" fmla="val 3352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ervice attribu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24360" y="3357720"/>
            <a:ext cx="3059280" cy="718920"/>
          </a:xfrm>
          <a:prstGeom prst="wedgeRoundRectCallout">
            <a:avLst>
              <a:gd name="adj1" fmla="val -7912"/>
              <a:gd name="adj2" fmla="val 2219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ransport eigenschappen (‘reliable’ of ‘besteffort’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96360" y="5300640"/>
            <a:ext cx="863280" cy="358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03640" y="5950080"/>
            <a:ext cx="1944720" cy="718920"/>
          </a:xfrm>
          <a:prstGeom prst="wedgeRoundRectCallout">
            <a:avLst>
              <a:gd name="adj1" fmla="val 110569"/>
              <a:gd name="adj2" fmla="val -9083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veiligings eigenschapp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9" dur="1" fill="hold"/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XML: Structuur – Defa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be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26920" y="3500280"/>
            <a:ext cx="7561440" cy="17449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059280" y="2565360"/>
            <a:ext cx="2519280" cy="647640"/>
          </a:xfrm>
          <a:prstGeom prst="wedgeRoundRectCallout">
            <a:avLst>
              <a:gd name="adj1" fmla="val -85476"/>
              <a:gd name="adj2" fmla="val 2401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faults voor alle berich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92720" y="5950080"/>
            <a:ext cx="2808360" cy="647640"/>
          </a:xfrm>
          <a:prstGeom prst="wedgeRoundRectCallout">
            <a:avLst>
              <a:gd name="adj1" fmla="val -33495"/>
              <a:gd name="adj2" fmla="val -20612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default retryCount wordt hier ‘overruled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3" dur="1" fill="hold"/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XML: Structuur – Pro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be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B Pro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187280" y="2924280"/>
            <a:ext cx="625320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PA Creatie Toolk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imple Message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grip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rvices &amp; R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nsport &amp;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tryCount &amp; RetryInt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fa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XML Valid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XML Struct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verige funk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XML: Structuur – Pro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be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SB Pro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11280" y="2997360"/>
            <a:ext cx="7777080" cy="21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XML: Structuur – Pro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files zijn niet verplic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ken ‘hergebruik’ van eigenschappen mogelij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50920" y="3429000"/>
            <a:ext cx="8497800" cy="306864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4716360" y="3068640"/>
            <a:ext cx="4067280" cy="2736720"/>
            <a:chOff x="4716360" y="3068640"/>
            <a:chExt cx="4067280" cy="2736720"/>
          </a:xfrm>
        </p:grpSpPr>
        <p:sp>
          <p:nvSpPr>
            <p:cNvPr id="166" name=""/>
            <p:cNvSpPr/>
            <p:nvPr/>
          </p:nvSpPr>
          <p:spPr>
            <a:xfrm>
              <a:off x="4716360" y="5589720"/>
              <a:ext cx="1008000" cy="215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24360" y="3068640"/>
              <a:ext cx="3059280" cy="1008000"/>
            </a:xfrm>
            <a:prstGeom prst="wedgeRoundRectCallout">
              <a:avLst>
                <a:gd name="adj1" fmla="val -65462"/>
                <a:gd name="adj2" fmla="val 191101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Verwijzing naar een gedefinieerd profiel in &lt;profiles&gt;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95280" y="3789360"/>
            <a:ext cx="6048360" cy="2303640"/>
            <a:chOff x="395280" y="3789360"/>
            <a:chExt cx="6048360" cy="2303640"/>
          </a:xfrm>
        </p:grpSpPr>
        <p:sp>
          <p:nvSpPr>
            <p:cNvPr id="169" name=""/>
            <p:cNvSpPr/>
            <p:nvPr/>
          </p:nvSpPr>
          <p:spPr>
            <a:xfrm>
              <a:off x="4716360" y="5734080"/>
              <a:ext cx="1727280" cy="358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5280" y="3789360"/>
              <a:ext cx="4681440" cy="1008000"/>
            </a:xfrm>
            <a:prstGeom prst="wedgeRoundRectCallout">
              <a:avLst>
                <a:gd name="adj1" fmla="val 41657"/>
                <a:gd name="adj2" fmla="val 158032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Verwijzing naar OSB profiel waarbij voor dit &lt;message&gt; de retryCount een andere waarde krijg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7" dur="1" fill="hold"/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XML: Struct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gebreide service attribu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00000" y="2421000"/>
            <a:ext cx="4535640" cy="21924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940360" y="2276640"/>
            <a:ext cx="3024360" cy="2447640"/>
          </a:xfrm>
          <a:prstGeom prst="wedgeRoundRectCallout">
            <a:avLst>
              <a:gd name="adj1" fmla="val -76351"/>
              <a:gd name="adj2" fmla="val -557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ptione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ervice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rocess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rocessuu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rocesshr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ie de CPPA spec voor de exacte beteken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19640" y="5661000"/>
            <a:ext cx="4464000" cy="936720"/>
          </a:xfrm>
          <a:prstGeom prst="wedgeRoundRectCallout">
            <a:avLst>
              <a:gd name="adj1" fmla="val 34425"/>
              <a:gd name="adj2" fmla="val -145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 de optionele proces attributen worden ‘slimme’ waardes ingevuld als deze niet expliciet worden opgegev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XML: Struct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ecialty’: 1x RetryCount/Interval opgeven voor beide Partners in de CP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an alleen via de parame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ndig als meerdere Partners met eenzelfde andere Partner communice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attribuut ‘bothside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be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042920" y="5229360"/>
            <a:ext cx="777564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PA Creatie Toolk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ige funk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verige funk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 hoc’ een CPA maken met bestan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ertificaat omzetten naar KeyInf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impel Excelsheet omzetten naar SM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arameter bestand maken met basis gegeve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PA gebruiken voor het maken van een sp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ervices, parameter, ketenkaart, SMF 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PA aanpassen t.b.v. SSL offloa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nereren van MMD’s voor tes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esten van CPA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846520" y="4795920"/>
            <a:ext cx="728640" cy="14414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508720" y="4797360"/>
            <a:ext cx="726840" cy="1440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342880" y="602136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bMS 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i="1" lang="nl-NL" sz="1800" spc="-1" strike="noStrike">
                <a:solidFill>
                  <a:srgbClr val="333399"/>
                </a:solidFill>
                <a:latin typeface="Arial"/>
              </a:rPr>
              <a:t>Local Partn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85080" y="6019920"/>
            <a:ext cx="171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bMS 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i="1" lang="nl-NL" sz="1800" spc="-1" strike="noStrike">
                <a:solidFill>
                  <a:srgbClr val="333399"/>
                </a:solidFill>
                <a:latin typeface="Arial"/>
              </a:rPr>
              <a:t>Other Partn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635280" y="5445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3634920" y="5661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68720" y="566100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TTP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16000" y="3068640"/>
            <a:ext cx="647640" cy="86508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19280" y="5084640"/>
            <a:ext cx="720720" cy="503280"/>
          </a:xfrm>
          <a:prstGeom prst="flowChartMagneticDisk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333399"/>
                </a:solidFill>
                <a:latin typeface="Arial"/>
              </a:rPr>
              <a:t>Integ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04000" y="5084640"/>
            <a:ext cx="720720" cy="503280"/>
          </a:xfrm>
          <a:prstGeom prst="flowChartMagneticDisk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333399"/>
                </a:solidFill>
                <a:latin typeface="Arial"/>
              </a:rPr>
              <a:t>Integ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340000" y="5300640"/>
            <a:ext cx="576360" cy="216000"/>
          </a:xfrm>
          <a:prstGeom prst="leftRightArrow">
            <a:avLst>
              <a:gd name="adj1" fmla="val 50000"/>
              <a:gd name="adj2" fmla="val 5311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227640" y="5300640"/>
            <a:ext cx="576360" cy="216000"/>
          </a:xfrm>
          <a:prstGeom prst="leftRightArrow">
            <a:avLst>
              <a:gd name="adj1" fmla="val 50000"/>
              <a:gd name="adj2" fmla="val 5311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32000" y="3284640"/>
            <a:ext cx="647640" cy="86508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47640" y="3500280"/>
            <a:ext cx="648000" cy="86544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08000" y="4581360"/>
            <a:ext cx="216000" cy="503280"/>
          </a:xfrm>
          <a:prstGeom prst="downArrow">
            <a:avLst>
              <a:gd name="adj1" fmla="val 50000"/>
              <a:gd name="adj2" fmla="val 58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3640" y="3716280"/>
            <a:ext cx="647640" cy="86508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11640" y="1484280"/>
            <a:ext cx="647640" cy="72072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 flipH="1">
            <a:off x="4140000" y="1773360"/>
            <a:ext cx="1223640" cy="12207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045800" y="1628640"/>
            <a:ext cx="21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PA Creatie Tool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i="1" lang="nl-NL" sz="1800" spc="-1" strike="noStrike">
                <a:solidFill>
                  <a:srgbClr val="333399"/>
                </a:solidFill>
                <a:latin typeface="Arial"/>
              </a:rPr>
              <a:t>Test CP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3490920" y="249228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835280" y="2852640"/>
            <a:ext cx="1296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050560" y="2852640"/>
            <a:ext cx="1081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266560" y="2852640"/>
            <a:ext cx="865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2482560" y="2852640"/>
            <a:ext cx="649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101080" y="5013360"/>
            <a:ext cx="914400" cy="609480"/>
          </a:xfrm>
          <a:prstGeom prst="flowChart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3399"/>
                </a:solidFill>
                <a:latin typeface="Arial"/>
              </a:rPr>
              <a:t>Liste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0800000">
            <a:off x="7524360" y="5300640"/>
            <a:ext cx="576360" cy="216000"/>
          </a:xfrm>
          <a:prstGeom prst="leftRightArrow">
            <a:avLst>
              <a:gd name="adj1" fmla="val 50000"/>
              <a:gd name="adj2" fmla="val 5311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132000" y="2852640"/>
            <a:ext cx="331164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16720" y="3716280"/>
            <a:ext cx="1152360" cy="86364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2843280" y="2060640"/>
            <a:ext cx="617400" cy="1224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020000" y="4581360"/>
            <a:ext cx="216000" cy="503280"/>
          </a:xfrm>
          <a:prstGeom prst="downArrow">
            <a:avLst>
              <a:gd name="adj1" fmla="val 50000"/>
              <a:gd name="adj2" fmla="val 58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3500000">
            <a:off x="6103080" y="3841920"/>
            <a:ext cx="2952720" cy="140508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669440" y="429264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Toeko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 flipH="1" flipV="1">
            <a:off x="4355640" y="2205000"/>
            <a:ext cx="2808360" cy="71928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 flipV="1">
            <a:off x="4355640" y="4149360"/>
            <a:ext cx="2808360" cy="35892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247200">
            <a:off x="1978200" y="3583080"/>
            <a:ext cx="2160360" cy="12240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20700000">
            <a:off x="828360" y="1917360"/>
            <a:ext cx="3600360" cy="12240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64360" y="3933720"/>
            <a:ext cx="1441440" cy="259236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592360"/>
              <a:gd name="textAreaBottom" fmla="*/ 2522160 h 2592360"/>
            </a:gdLst>
            <a:ahLst/>
            <a:rect l="textAreaLeft" t="textAreaTop" r="textAreaRight" b="textAreaBottom"/>
            <a:pathLst>
              <a:path w="21600" h="38842">
                <a:moveTo>
                  <a:pt x="3600" y="0"/>
                </a:moveTo>
                <a:arcTo wR="3600" hR="3600" stAng="16200000" swAng="-5400000"/>
                <a:lnTo>
                  <a:pt x="0" y="35242"/>
                </a:lnTo>
                <a:arcTo wR="3600" hR="3600" stAng="10800000" swAng="-5400000"/>
                <a:lnTo>
                  <a:pt x="18000" y="388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grippen: Services &amp;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05080" y="2421000"/>
            <a:ext cx="79200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ole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25800" y="3789360"/>
            <a:ext cx="79200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ole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1917720"/>
            <a:ext cx="79200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ole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33800" y="3860640"/>
            <a:ext cx="792000" cy="64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ole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164360" y="1268280"/>
            <a:ext cx="1441440" cy="259236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592360"/>
              <a:gd name="textAreaBottom" fmla="*/ 2522160 h 2592360"/>
            </a:gdLst>
            <a:ahLst/>
            <a:rect l="textAreaLeft" t="textAreaTop" r="textAreaRight" b="textAreaBottom"/>
            <a:pathLst>
              <a:path w="21600" h="38842">
                <a:moveTo>
                  <a:pt x="3600" y="0"/>
                </a:moveTo>
                <a:arcTo wR="3600" hR="3600" stAng="16200000" swAng="-5400000"/>
                <a:lnTo>
                  <a:pt x="0" y="35242"/>
                </a:lnTo>
                <a:arcTo wR="3600" hR="3600" stAng="10800000" swAng="-5400000"/>
                <a:lnTo>
                  <a:pt x="18000" y="388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08720" y="1557360"/>
            <a:ext cx="863640" cy="287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arty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2341440" y="4437000"/>
            <a:ext cx="69840" cy="9367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843280" y="4437000"/>
            <a:ext cx="433440" cy="10080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3852720" y="4363560"/>
            <a:ext cx="935280" cy="108108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3924000" y="2493720"/>
            <a:ext cx="1152360" cy="287964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1763640" y="3068280"/>
            <a:ext cx="216000" cy="237636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08720" y="4221000"/>
            <a:ext cx="863640" cy="28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arty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27880" y="29242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1341360"/>
            <a:ext cx="5689440" cy="36003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02160" y="29242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76360" y="5373720"/>
            <a:ext cx="1944720" cy="12240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r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284720" y="5300640"/>
            <a:ext cx="1944720" cy="12240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05080" y="2421000"/>
            <a:ext cx="79200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ole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25800" y="3789360"/>
            <a:ext cx="79200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ole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1917720"/>
            <a:ext cx="79200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ole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33800" y="3860640"/>
            <a:ext cx="792000" cy="64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ole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grippen: Role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om Rolebindin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service kan meerdere rollen benoe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partner zal die rollen moeten vervull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ke rollen horen nu bij een partn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rolebinding groepeert een aantal rollen,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horend bij een bepaalde serv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rolebinding wordt later gekoppeld aan een part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0920" y="1341360"/>
            <a:ext cx="5689440" cy="36003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247200">
            <a:off x="1987200" y="3284280"/>
            <a:ext cx="2378160" cy="1530360"/>
          </a:xfrm>
          <a:prstGeom prst="ellips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20700000">
            <a:off x="809640" y="1774800"/>
            <a:ext cx="3600360" cy="1368360"/>
          </a:xfrm>
          <a:prstGeom prst="ellips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64360" y="3933720"/>
            <a:ext cx="1441440" cy="259236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592360"/>
              <a:gd name="textAreaBottom" fmla="*/ 2522160 h 2592360"/>
            </a:gdLst>
            <a:ahLst/>
            <a:rect l="textAreaLeft" t="textAreaTop" r="textAreaRight" b="textAreaBottom"/>
            <a:pathLst>
              <a:path w="21600" h="38842">
                <a:moveTo>
                  <a:pt x="3600" y="0"/>
                </a:moveTo>
                <a:arcTo wR="3600" hR="3600" stAng="16200000" swAng="-5400000"/>
                <a:lnTo>
                  <a:pt x="0" y="35242"/>
                </a:lnTo>
                <a:arcTo wR="3600" hR="3600" stAng="10800000" swAng="-5400000"/>
                <a:lnTo>
                  <a:pt x="18000" y="388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grippen: Services &amp;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05080" y="2421000"/>
            <a:ext cx="79200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ole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25800" y="3789360"/>
            <a:ext cx="79200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ole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1917720"/>
            <a:ext cx="79200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ole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33800" y="3860640"/>
            <a:ext cx="792000" cy="64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ole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4360" y="1268280"/>
            <a:ext cx="1441440" cy="259236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592360"/>
              <a:gd name="textAreaBottom" fmla="*/ 2522160 h 2592360"/>
            </a:gdLst>
            <a:ahLst/>
            <a:rect l="textAreaLeft" t="textAreaTop" r="textAreaRight" b="textAreaBottom"/>
            <a:pathLst>
              <a:path w="21600" h="38842">
                <a:moveTo>
                  <a:pt x="3600" y="0"/>
                </a:moveTo>
                <a:arcTo wR="3600" hR="3600" stAng="16200000" swAng="-5400000"/>
                <a:lnTo>
                  <a:pt x="0" y="35242"/>
                </a:lnTo>
                <a:arcTo wR="3600" hR="3600" stAng="10800000" swAng="-5400000"/>
                <a:lnTo>
                  <a:pt x="18000" y="388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1557360"/>
            <a:ext cx="863640" cy="287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arty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4355640" y="2205000"/>
            <a:ext cx="2808360" cy="71928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2341440" y="4437000"/>
            <a:ext cx="69840" cy="9367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843280" y="4437000"/>
            <a:ext cx="433440" cy="10080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3852720" y="4363560"/>
            <a:ext cx="935280" cy="108108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3924000" y="2493720"/>
            <a:ext cx="1152360" cy="287964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1763640" y="3068280"/>
            <a:ext cx="216000" cy="237636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4355640" y="4149360"/>
            <a:ext cx="2808360" cy="35892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08720" y="4221000"/>
            <a:ext cx="863640" cy="28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arty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27880" y="29242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20741400">
            <a:off x="1839600" y="1915920"/>
            <a:ext cx="13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Roleb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48400">
            <a:off x="2560320" y="3429000"/>
            <a:ext cx="13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Roleb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5373720"/>
            <a:ext cx="1944720" cy="12240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r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5300640"/>
            <a:ext cx="1944720" cy="12240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grippen: Transport &amp; 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ansport = wijze van overdr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t acknowledgements &amp; retry Interval/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nder acknowledgements (‘fire and forget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ecurity = wijze van 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transport nivo: dubbelzijdig SS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payload nivo: encryptie en/of ondertek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mbinaties zijn mogel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grippen: RetryCount &amp; -Interv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tryCount: 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maximum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aantal keren dat een overdracht 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opnieuw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ordt geprobee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tryInterval: tijd tussen twee pogingen voor de overdrac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ecificat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s default waarde (‘voor alle berichten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er Action (‘overrules the default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s Parameter (‘op te geven door de partner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grippen: Defa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faults gelden voor alle services en dus alle berich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faults gelden OOK voor de </a:t>
            </a: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defaultChannel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de CP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armee dus ook de ACK bericht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armee dus ook de PING-PONG bericht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faults worden gespecificeerd v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ransport, Beveiliging, RetryCount, RetryInterv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defaults voor de Defaults zijn respectievelij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teffort’, ‘none’, ‘8’, ‘PTH3’ (3 uu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grippen: Pro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f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naam voor een bepaalde combinatie van overdrachts karakteristieken, bestaande u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try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tryInterv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07:59:04Z</dcterms:created>
  <dc:creator>E.J. van Nigtevecht</dc:creator>
  <dc:description/>
  <dc:language>en-US</dc:language>
  <cp:lastModifiedBy>E.J. van Nigtevecht</cp:lastModifiedBy>
  <dcterms:modified xsi:type="dcterms:W3CDTF">2009-12-01T12:28:58Z</dcterms:modified>
  <cp:revision>80</cp:revision>
  <dc:subject/>
  <dc:title>CPA Creatie Toolkit</dc:title>
</cp:coreProperties>
</file>