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F18-B370-4D3D-A0C7-FD8EFAD6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307-834C-48DA-9312-6AC42FF9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688-9FCA-45D6-9ABD-509DDE1B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C0-8DC1-4F84-8A6E-13206F13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D58-F6AD-4BA5-B2B3-216B1060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346-9543-4197-8AE6-A272185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20D-BBA3-4665-9D4F-A125B21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D72-97A0-4CEF-B6B0-6930AC5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5F7-AAEB-4DA4-B9BE-F26047C7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A00-12DE-4042-8BD9-A725A66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E1C-7A7A-481F-ACC0-A1BF8A4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FCA-95FD-47AC-B6B2-246CB466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07FD-7B9E-4B00-907F-89470C1DAB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Valid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ideer de XML op basis van de beschikbare XS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XSD voor de sevice 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sonnenglanz.net/2009/07/01/smf.services.2.0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XSD voor de parameter 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sonnenglanz.net/2009/07/01/smf.parameters.2.0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specif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969080" cy="263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2360" y="1484280"/>
            <a:ext cx="3600360" cy="1800360"/>
          </a:xfrm>
          <a:prstGeom prst="wedgeRoundRectCallout">
            <a:avLst>
              <a:gd name="adj1" fmla="val -105907"/>
              <a:gd name="adj2" fmla="val 659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beschrijft 1-of-meerdere service elemen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beschrijft de berichten die daarin uitgewisseld w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3429000"/>
            <a:ext cx="3600360" cy="1800360"/>
          </a:xfrm>
          <a:prstGeom prst="wedgeRoundRectCallout">
            <a:avLst>
              <a:gd name="adj1" fmla="val -94884"/>
              <a:gd name="adj2" fmla="val -23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rolebinding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groepeert de verschillende rollen, in de verschillende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enkelvoud) ele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373720"/>
            <a:ext cx="3600360" cy="1297080"/>
          </a:xfrm>
          <a:prstGeom prst="wedgeRoundRectCallout">
            <a:avLst>
              <a:gd name="adj1" fmla="val -96958"/>
              <a:gd name="adj2" fmla="val -139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parameter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geeft aan welke gegevens nog opgegeven moeten worden door een bepaalde 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058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iden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21300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484280"/>
            <a:ext cx="2519280" cy="720720"/>
          </a:xfrm>
          <a:prstGeom prst="wedgeRoundRectCallout">
            <a:avLst>
              <a:gd name="adj1" fmla="val -98203"/>
              <a:gd name="adj2" fmla="val 196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k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krijgt een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983280" cy="4264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identifier en roleb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13200" y="316872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25720" y="4797360"/>
            <a:ext cx="360360" cy="54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2"/>
            <a:endCxn id="125" idx="2"/>
          </p:cNvCxnSpPr>
          <p:nvPr/>
        </p:nvCxnSpPr>
        <p:spPr>
          <a:xfrm flipV="1" rot="10800000">
            <a:off x="2910600" y="3349440"/>
            <a:ext cx="87840" cy="1722960"/>
          </a:xfrm>
          <a:prstGeom prst="curvedConnector5">
            <a:avLst>
              <a:gd name="adj1" fmla="val 346502"/>
              <a:gd name="adj2" fmla="val 49989"/>
              <a:gd name="adj3" fmla="val 346502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356000" y="2781360"/>
            <a:ext cx="4537080" cy="1368360"/>
          </a:xfrm>
          <a:prstGeom prst="wedgeRoundRectCallout">
            <a:avLst>
              <a:gd name="adj1" fmla="val -71379"/>
              <a:gd name="adj2" fmla="val -15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k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krijgt een identifier om daarmee de groepering aan te geven van rollen BINNEN een service en de koppeling met een 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5805360"/>
            <a:ext cx="2951280" cy="917640"/>
          </a:xfrm>
          <a:prstGeom prst="wedgeRoundRectCallout">
            <a:avLst>
              <a:gd name="adj1" fmla="val -39296"/>
              <a:gd name="adj2" fmla="val -105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it voorbeeld kan de Partner dus beide rollen gaan vervull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983280" cy="4264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8136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2565360"/>
            <a:ext cx="2951280" cy="1349280"/>
          </a:xfrm>
          <a:prstGeom prst="wedgeRoundRectCallout">
            <a:avLst>
              <a:gd name="adj1" fmla="val -72379"/>
              <a:gd name="adj2" fmla="val 10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eferentie naar een parameter lijst: de Partner zal die gegevens moeten opgev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2135160"/>
            <a:ext cx="6624720" cy="4722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284640"/>
            <a:ext cx="36036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14972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79736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35280" y="4436640"/>
            <a:ext cx="865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35280" y="3499920"/>
            <a:ext cx="129708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4869000"/>
            <a:ext cx="3024360" cy="1584360"/>
          </a:xfrm>
          <a:prstGeom prst="wedgeRoundRectCallout">
            <a:avLst>
              <a:gd name="adj1" fmla="val -121916"/>
              <a:gd name="adj2" fmla="val -49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lijst wordt twee keer gebruikt. Maar als differentiatie nodig is kunnen er ook aparte lijsten worden gemaa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rvice &amp; Message Attrib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360" y="3357720"/>
            <a:ext cx="11160360" cy="233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8000" y="5300640"/>
            <a:ext cx="576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2781360"/>
            <a:ext cx="2519280" cy="431640"/>
          </a:xfrm>
          <a:prstGeom prst="wedgeRoundRectCallout">
            <a:avLst>
              <a:gd name="adj1" fmla="val -85476"/>
              <a:gd name="adj2" fmla="val 335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rvice attrib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3357720"/>
            <a:ext cx="3059280" cy="718920"/>
          </a:xfrm>
          <a:prstGeom prst="wedgeRoundRectCallout">
            <a:avLst>
              <a:gd name="adj1" fmla="val -7912"/>
              <a:gd name="adj2" fmla="val 2219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ansport eigenschappen (‘reliable’ of ‘besteffort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5300640"/>
            <a:ext cx="863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5950080"/>
            <a:ext cx="1944720" cy="718920"/>
          </a:xfrm>
          <a:prstGeom prst="wedgeRoundRectCallout">
            <a:avLst>
              <a:gd name="adj1" fmla="val 110569"/>
              <a:gd name="adj2" fmla="val -908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eiligings eigensch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7561440" cy="174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59280" y="2565360"/>
            <a:ext cx="2519280" cy="647640"/>
          </a:xfrm>
          <a:prstGeom prst="wedgeRoundRectCallout">
            <a:avLst>
              <a:gd name="adj1" fmla="val -85476"/>
              <a:gd name="adj2" fmla="val 2401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faults voor alle berich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2808360" cy="647640"/>
          </a:xfrm>
          <a:prstGeom prst="wedgeRoundRectCallout">
            <a:avLst>
              <a:gd name="adj1" fmla="val -33495"/>
              <a:gd name="adj2" fmla="val -2061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default retryCount wordt hier ‘overrul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B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253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mple Messag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vices &amp;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nsport &amp;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tryCount &amp; Retry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 Valid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 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SB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77770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files zijn niet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‘hergebruik’ van eigenschappen mog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497800" cy="30686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716360" y="3068640"/>
            <a:ext cx="4067280" cy="2736720"/>
            <a:chOff x="4716360" y="3068640"/>
            <a:chExt cx="4067280" cy="2736720"/>
          </a:xfrm>
        </p:grpSpPr>
        <p:sp>
          <p:nvSpPr>
            <p:cNvPr id="166" name=""/>
            <p:cNvSpPr/>
            <p:nvPr/>
          </p:nvSpPr>
          <p:spPr>
            <a:xfrm>
              <a:off x="4716360" y="5589720"/>
              <a:ext cx="1008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068640"/>
              <a:ext cx="3059280" cy="1008000"/>
            </a:xfrm>
            <a:prstGeom prst="wedgeRoundRectCallout">
              <a:avLst>
                <a:gd name="adj1" fmla="val -65462"/>
                <a:gd name="adj2" fmla="val 19110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Verwijzing naar een gedefinieerd profiel in &lt;profiles&gt;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5280" y="3789360"/>
            <a:ext cx="6048360" cy="2303640"/>
            <a:chOff x="395280" y="3789360"/>
            <a:chExt cx="6048360" cy="2303640"/>
          </a:xfrm>
        </p:grpSpPr>
        <p:sp>
          <p:nvSpPr>
            <p:cNvPr id="169" name=""/>
            <p:cNvSpPr/>
            <p:nvPr/>
          </p:nvSpPr>
          <p:spPr>
            <a:xfrm>
              <a:off x="4716360" y="5734080"/>
              <a:ext cx="172728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3789360"/>
              <a:ext cx="4681440" cy="1008000"/>
            </a:xfrm>
            <a:prstGeom prst="wedgeRoundRectCallout">
              <a:avLst>
                <a:gd name="adj1" fmla="val 41657"/>
                <a:gd name="adj2" fmla="val 15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Verwijzing naar OSB profiel waarbij voor dit &lt;message&gt; de retryCount een andere waarde krijg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ebreide service attrib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535640" cy="219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940360" y="2276640"/>
            <a:ext cx="3024360" cy="2447640"/>
          </a:xfrm>
          <a:prstGeom prst="wedgeRoundRectCallout">
            <a:avLst>
              <a:gd name="adj1" fmla="val -76351"/>
              <a:gd name="adj2" fmla="val -55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tione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u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h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ie de CPPA spec voor de exacte betek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5661000"/>
            <a:ext cx="4464000" cy="936720"/>
          </a:xfrm>
          <a:prstGeom prst="wedgeRoundRectCallout">
            <a:avLst>
              <a:gd name="adj1" fmla="val 34425"/>
              <a:gd name="adj2" fmla="val -1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de optionele proces attributen worden ‘slimme’ waardes ingevuld als deze niet expliciet worden opgeg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ialty’: 1x RetryCount/Interval opgeven voor beide Partners in de C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 alleen via de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ig als meerdere Partners met eenzelfde andere Partner communic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attribuut ‘bothsid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5229360"/>
            <a:ext cx="777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 hoc’ een CPA maken met besta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rtificaat omzetten naar KeyIn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mpel Excelsheet omzetten naar SM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meter bestand maken met basis gegev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PA gebruiken voor het maken van een sp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rvices, parameter, ketenkaart, SMF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PA aanpassen t.b.v. SSL offlo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nereren van MMD’s voor te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en van CP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846520" y="4795920"/>
            <a:ext cx="728640" cy="1441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508720" y="4797360"/>
            <a:ext cx="72684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42880" y="6021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bMS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Local Partn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5080" y="6019920"/>
            <a:ext cx="17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bMS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Other Partn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54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63492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8720" y="56610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06864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5084640"/>
            <a:ext cx="720720" cy="503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5084640"/>
            <a:ext cx="720720" cy="503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8464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3500280"/>
            <a:ext cx="648000" cy="865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4581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371628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1484280"/>
            <a:ext cx="647640" cy="720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 flipH="1">
            <a:off x="4140000" y="1773360"/>
            <a:ext cx="1223640" cy="1220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45800" y="16286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Test CP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90920" y="2492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5280" y="2852640"/>
            <a:ext cx="129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50560" y="285264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66560" y="285264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2560" y="2852640"/>
            <a:ext cx="64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013360"/>
            <a:ext cx="914400" cy="6094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752436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2852640"/>
            <a:ext cx="331164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716280"/>
            <a:ext cx="1152360" cy="863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61740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0000" y="4581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3500000">
            <a:off x="6103080" y="3841920"/>
            <a:ext cx="2952720" cy="14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69440" y="42926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Toe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 flipV="1">
            <a:off x="4355640" y="2205000"/>
            <a:ext cx="2808360" cy="7192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355640" y="4149360"/>
            <a:ext cx="2808360" cy="358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47200">
            <a:off x="1978200" y="3583080"/>
            <a:ext cx="2160360" cy="122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700000">
            <a:off x="828360" y="1917360"/>
            <a:ext cx="3600360" cy="122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393372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Services &amp;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126828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8720" y="1557360"/>
            <a:ext cx="863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341440" y="4437000"/>
            <a:ext cx="6984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43280" y="4437000"/>
            <a:ext cx="433440" cy="1008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852720" y="4363560"/>
            <a:ext cx="935280" cy="1081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924000" y="2493720"/>
            <a:ext cx="1152360" cy="2879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763640" y="3068280"/>
            <a:ext cx="216000" cy="2376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4221000"/>
            <a:ext cx="863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788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341360"/>
            <a:ext cx="5689440" cy="360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216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537372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530064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Role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om Rolebind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ervice kan meerdere rollen benoe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artner zal die rollen moeten vervu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rollen horen nu bij een part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rolebinding groepeert een aantal roll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orend bij een bepaald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ebinding wordt later gekoppeld aan ee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341360"/>
            <a:ext cx="5689440" cy="360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47200">
            <a:off x="1987200" y="3284280"/>
            <a:ext cx="2378160" cy="15303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700000">
            <a:off x="809640" y="1774800"/>
            <a:ext cx="3600360" cy="13683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393372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Services &amp;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26828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557360"/>
            <a:ext cx="863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55640" y="2205000"/>
            <a:ext cx="2808360" cy="7192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341440" y="4437000"/>
            <a:ext cx="6984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43280" y="4437000"/>
            <a:ext cx="433440" cy="1008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852720" y="4363560"/>
            <a:ext cx="935280" cy="1081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924000" y="2493720"/>
            <a:ext cx="1152360" cy="2879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763640" y="3068280"/>
            <a:ext cx="216000" cy="2376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355640" y="4149360"/>
            <a:ext cx="2808360" cy="358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8720" y="4221000"/>
            <a:ext cx="863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788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41400">
            <a:off x="1839600" y="19159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Role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48400">
            <a:off x="2560320" y="34290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Role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537372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30064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Transport &amp;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sport = wijze van over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cknowledgements &amp; retry Interval/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er acknowledgements (‘fire and forget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curity = wijze van 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transport nivo: dubbelzijdig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payload nivo: encryptie en/of ondertek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s zijn mog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RetryCount &amp; -Inter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tryCount: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antal keren dat een overdracht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opnieu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geprobee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tryInterval: tijd tussen twee pogingen voor de over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default waarde (‘voor alle berichten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 Action (‘overrules the default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Parameter (‘op te geven door de partner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gelden voor alle services en dus alle berich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gelden OOK voor de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defaultChannel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e C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dus ook de ACK beri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dus ook de PING-PONG beri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worden gespecificeerd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nsport, Beveiliging, RetryCount, RetryInter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efaults voor de Defaults zijn respectievelij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ffort’, ‘none’, ‘8’, ‘PTH3’ (3 u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naam voor een bepaalde combinatie van overdrachts karakteristieken, bestaande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try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tryInter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59:04Z</dcterms:created>
  <dc:creator>E.J. van Nigtevecht</dc:creator>
  <dc:description/>
  <dc:language>en-US</dc:language>
  <cp:lastModifiedBy>E.J. van Nigtevecht</cp:lastModifiedBy>
  <dcterms:modified xsi:type="dcterms:W3CDTF">2009-12-01T12:28:58Z</dcterms:modified>
  <cp:revision>80</cp:revision>
  <dc:subject/>
  <dc:title>CPA Creatie Toolkit</dc:title>
</cp:coreProperties>
</file>